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AF90-7C7A-4006-A447-8EC978D4B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FBD5-C5EF-47D7-BD55-87B68CBE2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CA23-814D-4516-B174-9620328A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B6DE-154A-43B3-B8D7-5A905485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806B-5892-4AB4-87F7-8844F024E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7254-6915-4508-A56A-5AF143EA7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90C6-3500-4F61-A2E0-7ABE888C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9D10-84C1-4BEE-B363-7F89D065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6899-1F55-4766-8DE6-558B7369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15A0-C37C-4416-AF15-25920F79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2C35-B79D-4123-8B6E-17BA46C5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FF3E-D8B1-471D-93A6-481A0945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2A38-D0C2-443F-8AAD-19F5E5D9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3C1B-B138-4E63-BDF5-7E192438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5661-5F1B-4AA5-8D21-C35E355B6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iella Bra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76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i nombre es Ariella, yo tengo una hermana que se llama Michelle. Tengo catorce anos. Yo vivo en Nueva York. Soy divertida y feli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645080"/>
            <a:ext cx="415800" cy="63324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u eres mi mejor amiga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uando te puedo ver te extrañ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e puedes acompañar mañana al parque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Que son las preguntas de la tarea yo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05740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7T18:29:05Z</dcterms:modified>
  <cp:revision>106</cp:revision>
  <dc:subject/>
  <dc:title>Profile</dc:title>
</cp:coreProperties>
</file>